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38793"/>
        <c:axId val="58184010"/>
      </c:barChart>
      <c:catAx>
        <c:axId val="64138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84010"/>
        <c:crosses val="autoZero"/>
        <c:auto val="1"/>
        <c:lblAlgn val="ctr"/>
        <c:lblOffset val="100"/>
        <c:noMultiLvlLbl val="0"/>
      </c:catAx>
      <c:valAx>
        <c:axId val="58184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8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AB5-0432-48AE-B96F-07F131D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D76-1035-44A8-ACDD-3FCB954D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DE2-B4BB-4DBD-B73F-AA403460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FC0-C3EC-4007-9E0C-F2F7C92E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7C2-4C31-4AA2-AD3D-F1DD2B55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0FC-CBF0-40BF-914E-C4D70598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177-2E56-4C39-9376-41D278CE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5A3-39BF-451C-8084-819C785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C7C-1EFB-4744-8794-2FFCB75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2EB-3749-46A3-AA69-F382357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324-8F8E-4358-994E-E833F49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AD2-EA38-42B8-A238-C0CFE3E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119A4-FCAA-4476-B229-6D20239790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