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08538"/>
        <c:axId val="60216184"/>
      </c:barChart>
      <c:catAx>
        <c:axId val="71408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16184"/>
        <c:crosses val="autoZero"/>
        <c:auto val="1"/>
        <c:lblAlgn val="ctr"/>
        <c:lblOffset val="100"/>
        <c:noMultiLvlLbl val="0"/>
      </c:catAx>
      <c:valAx>
        <c:axId val="6021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08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FD5-9C13-4C4F-BEA1-BAB36908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8A2-EBA0-4ACB-AC3B-3092851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BDF-AD10-4D9D-A8DF-8CF3A539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7CF-A4E3-41A2-8FB5-704AD44C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C39-A57E-4214-8DA2-F453FE7E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7BB-6816-451D-9C21-6BCEAE8E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16F-FD8E-4524-AFD3-63C72869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0F8-A072-43C5-8F65-C1937DE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26A-D88D-4FF5-B8BC-320810A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77E-BED3-4225-ADA3-F9198E5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DD8-C321-40B0-B1A2-7245A46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90F-7C9E-492E-99D7-AEA940B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0573-F9B7-496A-91E0-3A1BBD277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