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16800"/>
        <c:axId val="63455654"/>
      </c:barChart>
      <c:catAx>
        <c:axId val="99016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55654"/>
        <c:crosses val="autoZero"/>
        <c:auto val="1"/>
        <c:lblAlgn val="ctr"/>
        <c:lblOffset val="100"/>
        <c:noMultiLvlLbl val="0"/>
      </c:catAx>
      <c:valAx>
        <c:axId val="634556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16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32A-758E-4CE4-AD2E-65E7F7EE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0F1-5F0B-4906-A235-C9E72503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0A23-EAEA-4FBB-BB50-6C3BB87C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E8D-347A-4A43-979C-87C9B481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2F7-B16C-4294-8492-34127187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6C9-C5F9-4257-8509-667B4DD5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850-3740-4D36-89C7-4A5EBF19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C1B-7950-4AAB-940C-67CEB497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299-09EB-4CA9-BC29-48BC1798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8B9-62A4-40FC-ACD7-8A102320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15B-B0F4-4DDF-9219-3470B291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9DA-87B0-467B-8718-F2B73772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21DD5-A326-48BA-9B68-4CAF5478EB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