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06810"/>
        <c:axId val="32230450"/>
      </c:barChart>
      <c:catAx>
        <c:axId val="74906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30450"/>
        <c:crosses val="autoZero"/>
        <c:auto val="1"/>
        <c:lblAlgn val="ctr"/>
        <c:lblOffset val="100"/>
        <c:noMultiLvlLbl val="0"/>
      </c:catAx>
      <c:valAx>
        <c:axId val="32230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06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17D-BA5A-4A4B-8C24-15594589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6CB-FB2F-4AB4-9B08-9E31FDBC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064-7533-4B9B-94CA-6114C22A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3E7-D5DF-4401-9BF4-8227BF02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15E-5584-45E7-8C1D-CEDEE3AB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C58-6B3F-4F5D-ACC7-D4D1A97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85F-372C-47A7-B9BC-3163B78E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C94-7931-40C8-823D-86F6D072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BB7-85F8-4F87-984B-DDE37D3D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4F5-D403-47B6-B39E-F15E0440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4A8-4F5D-42D8-9960-3272291B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459-6D24-4A1D-A65F-AA94B03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12B0C-3575-415D-83B9-B5B93F5222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