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12783"/>
        <c:axId val="95260238"/>
      </c:barChart>
      <c:catAx>
        <c:axId val="88212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60238"/>
        <c:crosses val="autoZero"/>
        <c:auto val="1"/>
        <c:lblAlgn val="ctr"/>
        <c:lblOffset val="100"/>
        <c:noMultiLvlLbl val="0"/>
      </c:catAx>
      <c:valAx>
        <c:axId val="952602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12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1DE-D62D-4C50-91EB-53E9CB33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39EF-56B6-4D94-9BB0-0A43B72C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F0B-FD65-41D4-9748-D08397D4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5860-1240-4B6F-9CBC-4B1859B3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F4A-F440-4BC4-9CAA-486A6FBD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243-BCD5-4D6D-B44E-8344F420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2B13-AE4E-4BAD-B7EE-C452BB40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714-7E8B-45DC-9B65-B9CED067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62A-118F-4C4E-8956-30670CC5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A4F3-471E-42D9-A8CF-D394E17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618-0F98-4E8E-BFE8-7F7D362E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255-4E0F-46FD-836F-A05EF9F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976DF-960A-40D1-AF26-25B6495F8A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