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0154"/>
        <c:axId val="18024476"/>
      </c:barChart>
      <c:catAx>
        <c:axId val="3200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24476"/>
        <c:crosses val="autoZero"/>
        <c:auto val="1"/>
        <c:lblAlgn val="ctr"/>
        <c:lblOffset val="100"/>
        <c:noMultiLvlLbl val="0"/>
      </c:catAx>
      <c:valAx>
        <c:axId val="18024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0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6C1-7D4D-4C28-81F0-B0B81DF1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6E1-00FC-4E32-A50D-2431A8E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2F6-A1C7-4C80-93BF-F0F4B2DF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F3D-FAB1-4EB3-A1FE-D21ED62F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189-D3CE-44EB-AC11-FBFC3289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71F-5C50-4643-A7B0-BDA30DBF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7F2-8D5F-46E9-9701-39A2BBFE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833-2313-481A-965C-5DB0C9C0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148-95BD-44BD-B888-750448D0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D11-09AD-4FD7-941C-F31E435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D18-8E32-4A0B-B26D-799F5A00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921-FEC0-44BB-AB3A-C4013AC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475C2-146D-4D50-9E7E-9C28A59A4B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