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84747"/>
        <c:axId val="2038970"/>
      </c:barChart>
      <c:catAx>
        <c:axId val="63884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8970"/>
        <c:crosses val="autoZero"/>
        <c:auto val="1"/>
        <c:lblAlgn val="ctr"/>
        <c:lblOffset val="100"/>
        <c:noMultiLvlLbl val="0"/>
      </c:catAx>
      <c:valAx>
        <c:axId val="2038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84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529-1606-4C4C-8E68-AA16EE9E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28E-0DB3-40A7-825B-4B2BF087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AE6-51BF-48AB-A83E-E6BF4FCC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FDB-7C15-495D-A837-0B7CDCFF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B19-ED18-4AB2-8D57-103B95EA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F35-1D49-4E8A-9A4E-7ED9F5B0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0DD-E15E-46DA-82DF-19CD5C2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75A-183A-48D9-A879-69B1B880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C89-F176-4E48-9C87-C132CE12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DE9-6960-48A1-86F0-1FA2C4E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64C-B09F-48CC-AEB3-35257666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963-3D8E-43A6-BCA0-1F92FEFB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16824-AE41-447B-A724-CC5BD6146C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