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524120"/>
        <c:axId val="3916466"/>
      </c:barChart>
      <c:catAx>
        <c:axId val="745241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6466"/>
        <c:crosses val="autoZero"/>
        <c:auto val="1"/>
        <c:lblAlgn val="ctr"/>
        <c:lblOffset val="100"/>
        <c:noMultiLvlLbl val="0"/>
      </c:catAx>
      <c:valAx>
        <c:axId val="39164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241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6FD3-2F1D-45A9-B05C-A180A6CA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9686-F20C-4A29-A632-B355F1E6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D9B6-10A4-47E9-BF3A-B00FDC38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86A9-16F1-4B61-8D53-C5B33A90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1BC0-7245-48D5-97C4-E59A62C7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148D-A89C-4628-977A-CA14E388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0A43-75D4-46E7-870B-40FD0FB7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BD03-2746-4CC5-9880-BFE65B15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EC0D-0CC4-4FE3-97BF-FF4BAC42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022C-5905-4AB7-8808-F71B0E2D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D89-9D3E-4407-933A-9B7080DF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6ED5-F8A4-420E-8D3D-374C6231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8755C-C9FC-41CB-8D9E-49C1C1CBEF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