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48396"/>
        <c:axId val="48587011"/>
      </c:barChart>
      <c:catAx>
        <c:axId val="61248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87011"/>
        <c:crosses val="autoZero"/>
        <c:auto val="1"/>
        <c:lblAlgn val="ctr"/>
        <c:lblOffset val="100"/>
        <c:noMultiLvlLbl val="0"/>
      </c:catAx>
      <c:valAx>
        <c:axId val="48587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8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D14-5500-4005-A502-1DE63D3D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444-13C1-4E6B-9180-0D5A5375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10A-AD1A-4DB3-8364-DBC1A0AB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32A-9978-4BE2-A598-7ED30677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953-C080-4771-B632-3DA50426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CBC-1C37-4612-8DDE-9CD826AD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709-A2B9-4B0C-9E32-C610B4D6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9B5-DD4D-4AE0-B2D5-B8A7A893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6EF-0724-459D-A769-8C01D876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8CB-2FA4-415A-9C59-5F94C3F0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91D-D5F9-4BF3-8AB2-162332BB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901-1A26-499E-8A40-83B794A9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502BF-706E-4E36-BE9D-C1663A2BFE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