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84012"/>
        <c:axId val="46143571"/>
      </c:barChart>
      <c:catAx>
        <c:axId val="28184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43571"/>
        <c:crosses val="autoZero"/>
        <c:auto val="1"/>
        <c:lblAlgn val="ctr"/>
        <c:lblOffset val="100"/>
        <c:noMultiLvlLbl val="0"/>
      </c:catAx>
      <c:valAx>
        <c:axId val="46143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84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B2C-5BC7-42C8-B018-14757AF0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3EC-E6B7-40F2-8D76-43E9872F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D606-D697-4CE6-8383-C896F909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2FD-588D-4D70-8845-7D1BB6F4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238-1489-4493-9D5F-3E8D8726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317-1AF6-4DDA-BE9E-9080DAF7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58F-14DC-4066-8B67-DC3377B6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4D0-5856-4076-8EB9-B8553703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804-0742-4B0F-9D59-A1D28848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9BF-2C60-4542-B71B-7EA7E03F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73A-6711-47FB-84D4-A1F01612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EAD-6656-4339-B61A-5F2D7FF1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852A4-7712-447C-AC16-1DAFB41ABA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